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5045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70080" y="5626440"/>
            <a:ext cx="5045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269720" y="1130040"/>
            <a:ext cx="10464840" cy="72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270080" y="562644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3855240" y="562644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270080" y="5626440"/>
            <a:ext cx="5045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5045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270080" y="5626440"/>
            <a:ext cx="5045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270080" y="562644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3855240" y="562644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2976120" y="264132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81800" y="264132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270080" y="562644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2976120" y="562644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4681800" y="562644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70080" y="562644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55240" y="562644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270080" y="2641320"/>
            <a:ext cx="5045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5045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269720" y="1130040"/>
            <a:ext cx="10464840" cy="72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70080" y="562644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855240" y="562644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70080" y="5626440"/>
            <a:ext cx="5045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5045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270080" y="5626440"/>
            <a:ext cx="5045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270080" y="562644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3855240" y="562644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6120" y="264132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81800" y="264132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70080" y="562644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76120" y="562644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681800" y="562644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2976120" y="264132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81800" y="264132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270080" y="562644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2976120" y="562644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4681800" y="562644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270080" y="2641320"/>
            <a:ext cx="5045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5045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1269720" y="1130040"/>
            <a:ext cx="10464840" cy="72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270080" y="562644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855240" y="562644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270080" y="5626440"/>
            <a:ext cx="5045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5045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1270080" y="5626440"/>
            <a:ext cx="5045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270080" y="562644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3855240" y="562644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2976120" y="264132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81800" y="264132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1270080" y="562644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2976120" y="562644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4681800" y="562644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270080" y="2641320"/>
            <a:ext cx="5045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5045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269720" y="1130040"/>
            <a:ext cx="10464840" cy="72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70080" y="562644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70080" y="2641320"/>
            <a:ext cx="5045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855240" y="562644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270080" y="5626440"/>
            <a:ext cx="5045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5045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270080" y="5626440"/>
            <a:ext cx="5045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270080" y="562644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3855240" y="562644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2976120" y="264132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81800" y="264132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270080" y="562644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2976120" y="562644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4681800" y="562644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5045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69720" y="1130040"/>
            <a:ext cx="10464840" cy="72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70080" y="562644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70080" y="2641320"/>
            <a:ext cx="5045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55240" y="562644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70080" y="5626440"/>
            <a:ext cx="5045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5045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270080" y="5626440"/>
            <a:ext cx="5045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70080" y="562644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55240" y="562644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976120" y="264132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1800" y="264132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270080" y="562644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976120" y="562644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681800" y="562644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70080" y="2641320"/>
            <a:ext cx="5045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5045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5045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269720" y="1130040"/>
            <a:ext cx="10464840" cy="72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270080" y="562644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855240" y="562644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70080" y="5626440"/>
            <a:ext cx="5045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5045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270080" y="5626440"/>
            <a:ext cx="5045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270080" y="562644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855240" y="562644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976120" y="264132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81800" y="264132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270080" y="562644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976120" y="562644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4681800" y="562644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270080" y="2641320"/>
            <a:ext cx="5045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5045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269720" y="1130040"/>
            <a:ext cx="10464840" cy="72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270080" y="562644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55240" y="562644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270080" y="5626440"/>
            <a:ext cx="5045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5045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270080" y="5626440"/>
            <a:ext cx="5045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270080" y="562644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855240" y="562644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976120" y="264132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81800" y="264132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270080" y="562644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2976120" y="562644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4681800" y="562644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270080" y="2641320"/>
            <a:ext cx="5045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5045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269720" y="1130040"/>
            <a:ext cx="10464840" cy="72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270080" y="562644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855240" y="562644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270080" y="5626440"/>
            <a:ext cx="5045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5045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270080" y="5626440"/>
            <a:ext cx="5045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270080" y="562644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855240" y="562644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69720" y="1130040"/>
            <a:ext cx="10464840" cy="72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976120" y="264132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81800" y="264132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1270080" y="562644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2976120" y="562644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4681800" y="562644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270080" y="2641320"/>
            <a:ext cx="5045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5045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269720" y="1130040"/>
            <a:ext cx="10464840" cy="72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270080" y="562644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855240" y="562644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270080" y="5626440"/>
            <a:ext cx="5045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70080" y="562644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5045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270080" y="5626440"/>
            <a:ext cx="5045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270080" y="562644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855240" y="562644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2976120" y="264132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81800" y="264132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270080" y="562644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2976120" y="562644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4681800" y="562644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270080" y="2641320"/>
            <a:ext cx="5045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5045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269720" y="1130040"/>
            <a:ext cx="10464840" cy="72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270080" y="562644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55240" y="562644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855240" y="562644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270080" y="5626440"/>
            <a:ext cx="5045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5045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1270080" y="5626440"/>
            <a:ext cx="5045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70080" y="562644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3855240" y="562644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2976120" y="264132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81800" y="264132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1270080" y="562644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2976120" y="562644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4681800" y="562644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270080" y="2641320"/>
            <a:ext cx="5045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5045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70080" y="5626440"/>
            <a:ext cx="5045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1269720" y="1130040"/>
            <a:ext cx="10464840" cy="72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270080" y="562644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855240" y="562644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270080" y="5626440"/>
            <a:ext cx="5045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5045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1270080" y="5626440"/>
            <a:ext cx="5045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855240" y="264132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270080" y="562644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3855240" y="5626440"/>
            <a:ext cx="24616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2976120" y="264132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81800" y="264132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1270080" y="562644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2976120" y="562644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4681800" y="5626440"/>
            <a:ext cx="162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270080" y="2641320"/>
            <a:ext cx="5045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5045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900" spc="-1" strike="noStrike">
                <a:solidFill>
                  <a:srgbClr val="707272"/>
                </a:solidFill>
                <a:latin typeface="Gill Sans"/>
              </a:rPr>
              <a:t>Click to edit the title text format</a:t>
            </a: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  <a:p>
            <a:pPr lvl="1" algn="ctr">
              <a:buClr>
                <a:srgbClr val="a7aaab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  <a:p>
            <a:pPr lvl="2" algn="ctr">
              <a:buClr>
                <a:srgbClr val="a7aaab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  <a:p>
            <a:pPr lvl="3" algn="ctr">
              <a:buClr>
                <a:srgbClr val="a7aaab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  <a:p>
            <a:pPr lvl="4" algn="ctr">
              <a:buClr>
                <a:srgbClr val="a7aaab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" name=""/>
          <p:cNvSpPr/>
          <p:nvPr/>
        </p:nvSpPr>
        <p:spPr>
          <a:xfrm>
            <a:off x="1079640" y="4863960"/>
            <a:ext cx="10818720" cy="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47280" y="1130040"/>
            <a:ext cx="58676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5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47280" y="2641320"/>
            <a:ext cx="5867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15600" indent="-3996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75960" indent="-3996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5960" indent="-3999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95600" indent="-3996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55960" indent="-3996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55960" indent="-3996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55960" indent="-3996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81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1980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198000" indent="-19800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198000" indent="-19800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198000" indent="-19800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198000" indent="-19800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198000" indent="-19800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198000" indent="-19800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3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772040" y="264132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5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86" name="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270080" y="2641320"/>
            <a:ext cx="5045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32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818181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170" name="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73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695916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818181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211" name="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14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56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97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39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table.com/" TargetMode="External"/><Relationship Id="rId3" Type="http://schemas.openxmlformats.org/officeDocument/2006/relationships/hyperlink" Target="http://www.backroads.com/" TargetMode="External"/><Relationship Id="rId4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900" spc="-1" strike="noStrike">
                <a:solidFill>
                  <a:srgbClr val="707272"/>
                </a:solidFill>
                <a:latin typeface="Gill Sans"/>
              </a:rPr>
              <a:t>Titanium</a:t>
            </a: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2"/>
          <a:stretch/>
        </p:blipFill>
        <p:spPr>
          <a:xfrm>
            <a:off x="330120" y="1346040"/>
            <a:ext cx="4864320" cy="382284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3"/>
          <a:stretch/>
        </p:blipFill>
        <p:spPr>
          <a:xfrm>
            <a:off x="6058080" y="2882880"/>
            <a:ext cx="5930640" cy="397512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7099200" y="4584600"/>
            <a:ext cx="457200" cy="457200"/>
          </a:xfrm>
          <a:prstGeom prst="ellipse">
            <a:avLst/>
          </a:prstGeom>
          <a:noFill/>
          <a:ln w="25560">
            <a:solidFill>
              <a:srgbClr val="f91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"/>
          <p:cNvSpPr/>
          <p:nvPr/>
        </p:nvSpPr>
        <p:spPr>
          <a:xfrm>
            <a:off x="968760" y="7022880"/>
            <a:ext cx="4178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  <a:ea typeface="Gill Sans"/>
              </a:rPr>
              <a:t>Group 4, Period 4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4952520" y="5054760"/>
            <a:ext cx="2233800" cy="223488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419040" y="1216080"/>
            <a:ext cx="5639040" cy="557856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6479280" y="4267080"/>
            <a:ext cx="2986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  <a:ea typeface="Gill Sans"/>
              </a:rPr>
              <a:t>Protons-22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  <a:ea typeface="Gill Sans"/>
              </a:rPr>
              <a:t>Nuetrons-26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Isotopes and Ions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304920" y="3084480"/>
            <a:ext cx="4559040" cy="508464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6661080" y="3168720"/>
            <a:ext cx="167652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Ion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"/>
          <p:cNvSpPr/>
          <p:nvPr/>
        </p:nvSpPr>
        <p:spPr>
          <a:xfrm>
            <a:off x="6441120" y="4571640"/>
            <a:ext cx="1690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  <a:ea typeface="Gill Sans"/>
              </a:rPr>
              <a:t>3+/4+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William Gregor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2565360" y="3314880"/>
            <a:ext cx="2286000" cy="266688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551520" y="6680160"/>
            <a:ext cx="630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  <a:ea typeface="Gill Sans"/>
              </a:rPr>
              <a:t>William Gregor discovere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  <a:ea typeface="Gill Sans"/>
              </a:rPr>
              <a:t>Titanium in 1791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7704000" y="3078000"/>
            <a:ext cx="3254400" cy="360684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8531640" y="7114320"/>
            <a:ext cx="1599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iscover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in Englan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216000" y="1168560"/>
            <a:ext cx="6134040" cy="364464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924120" y="6405480"/>
            <a:ext cx="111502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Titanium is the 9th ranked element in the earth’s crust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Titanium is used in machine parts because it is much strong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nd lasts longer than steel. It is more expensive though and is us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in lots of lightweight toys like golf clubs, bikes, and other sporting equipment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3"/>
          <a:stretch/>
        </p:blipFill>
        <p:spPr>
          <a:xfrm>
            <a:off x="6730920" y="2590920"/>
            <a:ext cx="5067360" cy="36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Bibliography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23" name=""/>
          <p:cNvSpPr/>
          <p:nvPr/>
        </p:nvSpPr>
        <p:spPr>
          <a:xfrm>
            <a:off x="2730600" y="3162240"/>
            <a:ext cx="7543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07960" indent="-507960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all, David. "Periodic Table."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orld Boo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 Student ed. 2009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odic Ta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 Web. 18 Nov. 2009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507960" indent="-507960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ntor, Yinon. "Titanium."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emical Ele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 Student ed. 2009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itaniu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 Web. 18 Nov. 2009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507960" indent="-507960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"Dynamic Periodic Table."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ynamic Periodic Ta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 N.p., n.d. Web. 24 Nov. 2009. &lt;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www.ptable.c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gt;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507960" indent="-507960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"Periodic Table Of The Elements."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airie Hills Middle School handbook 2009-20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Aug. 2009: 109. Print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507960" indent="-507960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itmire, Kenton H. "Titanium."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orldboo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 student ed. 2009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orldboo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 Web. 18 Nov. 2009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507960" indent="-507960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known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ik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 N.d. unknown, unknown.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ww.backroads.c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 We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b. 18 Nov. 2009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507960" indent="-507960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known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gland Ma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 N.d. unknown, unknown.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ww.europe-map.c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 Web. 18 Nov. 2009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507960" indent="-507960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known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lliam Greg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 N.d. unknown, unknown.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ww.turkeymax.c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 Web. 18 Nov. 2009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507960" indent="-507960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507960" indent="-507960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507960" indent="-507960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LA formatting by BibMe.org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